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B4D-3FD6-4361-8419-5D8740B7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C41-D605-40B8-847E-DCE97E2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711-B574-477E-B827-B6CA1BF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E23-D094-4EB3-A78D-07432575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CE-C862-486C-A1FE-73AB3D3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CF8-3958-4F76-8867-E0809D3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9CA-03AC-42E7-A522-1E20898A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F10-352C-4C44-ACE0-0D3A346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CF7-ADB7-4227-BB96-CC0A216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38F-42D7-43C3-8F96-58E03DC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E61-ABE3-4247-96DF-F27349EF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F7F-B3E0-40F1-88AD-E67DE09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8E88-C377-4980-8BC5-63A5A323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25960" cy="3676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4433760" cy="33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867040" cy="38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053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Scarlet Le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3962520"/>
            <a:ext cx="2971800" cy="26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A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19920" y="579132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gry Peopl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 rot="1406400">
            <a:off x="2514240" y="2666520"/>
            <a:ext cx="453852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rthur Dimmesd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24:49Z</dcterms:created>
  <dc:creator>dcsuser</dc:creator>
  <dc:description/>
  <dc:language>en-US</dc:language>
  <cp:lastModifiedBy>dcsuser</cp:lastModifiedBy>
  <dcterms:modified xsi:type="dcterms:W3CDTF">2011-03-23T13:34:36Z</dcterms:modified>
  <cp:revision>2</cp:revision>
  <dc:subject/>
  <dc:title>Slide 1</dc:title>
</cp:coreProperties>
</file>